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4800" y="8763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0" y="239760"/>
          <a:ext cx="6858000" cy="844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760"/>
                    <a:ext cx="6858000" cy="84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0" y="0"/>
          <a:ext cx="6840360" cy="912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17680" y="819000"/>
            <a:ext cx="176148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3840" y="749160"/>
            <a:ext cx="6472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3480" y="1027080"/>
            <a:ext cx="10922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FI01-**-C-21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3840" y="1303200"/>
            <a:ext cx="6915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 72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21440" y="1165320"/>
            <a:ext cx="1025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23600" y="2135160"/>
            <a:ext cx="665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23600" y="2413080"/>
            <a:ext cx="405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/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24320" y="2689200"/>
            <a:ext cx="491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88880" y="1857240"/>
            <a:ext cx="12355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enith Computer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131 Star 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enville, GA  304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3521160"/>
            <a:ext cx="585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1-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89440" y="3521160"/>
            <a:ext cx="462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55080" y="3589200"/>
            <a:ext cx="1891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detailed bill herewith attach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ed 29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58760" y="3521160"/>
            <a:ext cx="674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,637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59760" y="4629240"/>
            <a:ext cx="16912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Due Date:  5 AUG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58760" y="4800600"/>
            <a:ext cx="674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,637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1080" y="5054760"/>
            <a:ext cx="45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8760" y="5486400"/>
            <a:ext cx="674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,656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480" y="6153120"/>
            <a:ext cx="37155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lter Cory, LTC, F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800" y="6777000"/>
            <a:ext cx="41860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*2020 76-9505 117096.20-26FB W91IMO*1422190/MJDF S09076 $5656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55320" y="7539120"/>
            <a:ext cx="1752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$5,656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9440" y="88390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99680" y="88390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71320" y="5038560"/>
            <a:ext cx="12430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error on in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7280" y="533412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                   1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274920" y="1357200"/>
            <a:ext cx="626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9840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1848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17800" y="4738680"/>
            <a:ext cx="630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200" y="4911840"/>
            <a:ext cx="3900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51760" y="6707160"/>
            <a:ext cx="1163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Due 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30800" y="7058160"/>
            <a:ext cx="3268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6989760"/>
            <a:ext cx="3808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32400" y="7682040"/>
            <a:ext cx="660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84600" y="8236080"/>
            <a:ext cx="368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28600" y="8097840"/>
            <a:ext cx="1357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4400" y="4879800"/>
            <a:ext cx="4343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*2020  76-9505  117096.Z0-43AJ  W91CMD*11611290/NBAH S09076             $        1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2640" y="6705720"/>
            <a:ext cx="678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51320" y="6981840"/>
            <a:ext cx="127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 Days                   1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0560" y="762012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25.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5800" y="807732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40000" y="82296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240" y="822960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90600" y="768672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40640" y="4724280"/>
            <a:ext cx="63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,023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3274920" y="1357200"/>
            <a:ext cx="626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0000" y="85294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59760" y="8485200"/>
            <a:ext cx="1020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Betty Hold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83120" y="7653240"/>
            <a:ext cx="927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Paul Swan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0000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55627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40360" y="542304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52578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57150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57280" y="46836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87360" y="46188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685800"/>
            <a:ext cx="2003400" cy="13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9144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1371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343400" y="1599840"/>
            <a:ext cx="2001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8200" y="700200"/>
            <a:ext cx="1477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71256-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62120" y="93996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56920" y="1047600"/>
            <a:ext cx="81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 MA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62560" y="1393920"/>
            <a:ext cx="124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24680" y="162252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57280" y="1638360"/>
            <a:ext cx="1299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05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. O. #00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30600" y="550800"/>
            <a:ext cx="244728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MINGTON SUPPLY OUT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67 CENTRAL A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TOWN, OHIO  45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30400" y="150804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9760" y="173844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889440" y="2073240"/>
            <a:ext cx="261720" cy="288720"/>
            <a:chOff x="3889440" y="2073240"/>
            <a:chExt cx="261720" cy="288720"/>
          </a:xfrm>
        </p:grpSpPr>
        <p:sp>
          <p:nvSpPr>
            <p:cNvPr id="385" name=""/>
            <p:cNvSpPr/>
            <p:nvPr/>
          </p:nvSpPr>
          <p:spPr>
            <a:xfrm flipV="1">
              <a:off x="4151160" y="20732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89440" y="2354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9440" y="2106720"/>
            <a:ext cx="280800" cy="288720"/>
            <a:chOff x="649440" y="2106720"/>
            <a:chExt cx="280800" cy="288720"/>
          </a:xfrm>
        </p:grpSpPr>
        <p:sp>
          <p:nvSpPr>
            <p:cNvPr id="388" name=""/>
            <p:cNvSpPr/>
            <p:nvPr/>
          </p:nvSpPr>
          <p:spPr>
            <a:xfrm flipV="1">
              <a:off x="6555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9440" y="2387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889440" y="1430280"/>
            <a:ext cx="261720" cy="273240"/>
            <a:chOff x="3889440" y="1430280"/>
            <a:chExt cx="261720" cy="273240"/>
          </a:xfrm>
        </p:grpSpPr>
        <p:sp>
          <p:nvSpPr>
            <p:cNvPr id="391" name=""/>
            <p:cNvSpPr/>
            <p:nvPr/>
          </p:nvSpPr>
          <p:spPr>
            <a:xfrm>
              <a:off x="4151160" y="14400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9440" y="14302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1125000" y="2481120"/>
            <a:ext cx="23742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0120" y="260352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8560" y="337500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8200" y="376380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98800" y="3773520"/>
            <a:ext cx="156024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ps,  100, Styrofo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6600" y="376380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65520" y="3754440"/>
            <a:ext cx="7574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22320" y="3763800"/>
            <a:ext cx="8456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1880" y="493380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04720" y="3770280"/>
            <a:ext cx="418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50040" y="414504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50040" y="452448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50040" y="490680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50040" y="53229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29760" y="581652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21600" y="581652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023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49440" y="1433520"/>
            <a:ext cx="280800" cy="266760"/>
            <a:chOff x="649440" y="1433520"/>
            <a:chExt cx="280800" cy="266760"/>
          </a:xfrm>
        </p:grpSpPr>
        <p:sp>
          <p:nvSpPr>
            <p:cNvPr id="440" name=""/>
            <p:cNvSpPr/>
            <p:nvPr/>
          </p:nvSpPr>
          <p:spPr>
            <a:xfrm>
              <a:off x="655560" y="14367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49440" y="1433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34040" y="417996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24000" y="4189320"/>
            <a:ext cx="1238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ks, 50, Pla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94360" y="417996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34880" y="417996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51280" y="417996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56960" y="417996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4040" y="454176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88360" y="4557600"/>
            <a:ext cx="1362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oons, 50, Pla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87880" y="454176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44240" y="454176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51280" y="454176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56960" y="454176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18200" y="491004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3480" y="491004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44240" y="491004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51280" y="491004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6960" y="491004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3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09600" y="4925880"/>
            <a:ext cx="1307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nives, 50, Pla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97000" y="6553080"/>
            <a:ext cx="430992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40120" y="259092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3258360" y="13572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0000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3800" y="4879800"/>
            <a:ext cx="4384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X4930.AC27 76 W91INF*FREIGHT APC-9SF3 S09076                                     $       99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2640" y="6705720"/>
            <a:ext cx="74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52400" y="6981840"/>
            <a:ext cx="130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ight                   99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60560" y="762012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,205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05800" y="807732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0" y="82296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57240" y="822960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90600" y="768672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59360" y="4724280"/>
            <a:ext cx="66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,10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3274200" y="13572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04800" y="8529480"/>
            <a:ext cx="693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81680" y="7653240"/>
            <a:ext cx="1083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ohn Free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16000" y="8485200"/>
            <a:ext cx="849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im M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6804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09800" y="4782960"/>
            <a:ext cx="527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71600" y="4911840"/>
            <a:ext cx="1054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2000" y="6643800"/>
            <a:ext cx="7603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30800" y="7068960"/>
            <a:ext cx="476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70600" y="7068960"/>
            <a:ext cx="469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9600" y="8236080"/>
            <a:ext cx="2383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84600" y="8236080"/>
            <a:ext cx="3110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411480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91120" y="52578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54100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55627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846680" y="549360"/>
            <a:ext cx="1684440" cy="245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46680" y="915840"/>
            <a:ext cx="1684440" cy="247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46680" y="1305000"/>
            <a:ext cx="1684440" cy="247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7160" y="428760"/>
            <a:ext cx="64036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440" y="631800"/>
            <a:ext cx="2592000" cy="75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OHNSON OFFICE EQUIPMENT IN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0142 OSCAR DR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DING, PA  321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62200" y="1739880"/>
            <a:ext cx="2104200" cy="58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0720" y="1916280"/>
            <a:ext cx="6962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78480" y="561960"/>
            <a:ext cx="1157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78120" y="939960"/>
            <a:ext cx="968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OICE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78840" y="1324080"/>
            <a:ext cx="11001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19840" y="1324080"/>
            <a:ext cx="1400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FI01-**-F-0391, 00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1640" y="94608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0920" y="598320"/>
            <a:ext cx="546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10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9680" y="360360"/>
            <a:ext cx="657864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040" y="3156120"/>
            <a:ext cx="62449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           QUANTITY              DESCRIPTION             UNIT PRICE   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7320" y="3581280"/>
            <a:ext cx="61524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57000" y="3581280"/>
            <a:ext cx="318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65280" y="3581280"/>
            <a:ext cx="16182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vel Chairs w/o a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vel Chairs w/a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 Desks, D.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ight Char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82720" y="3581280"/>
            <a:ext cx="59256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2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59280" y="3581280"/>
            <a:ext cx="78912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,75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,12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4,231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8080" y="3068640"/>
            <a:ext cx="6433920" cy="221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524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4324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2604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2592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7160" y="3409920"/>
            <a:ext cx="6395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81480" y="5372280"/>
            <a:ext cx="1331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HANDI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82920" y="5719680"/>
            <a:ext cx="874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82920" y="6134040"/>
            <a:ext cx="12294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61080" y="538812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106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7840" y="5734080"/>
            <a:ext cx="789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61080" y="614988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205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54520" y="5354640"/>
            <a:ext cx="98748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54520" y="5734080"/>
            <a:ext cx="987480" cy="25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54520" y="6116760"/>
            <a:ext cx="98748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2360" y="6249960"/>
            <a:ext cx="3932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56200" y="6613560"/>
            <a:ext cx="34430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LOC, N/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ENDORS 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 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BILLING OFF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 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/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G  (23 JUN + 7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 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OG  (28 JUN + 30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 J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190512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17640" y="1440"/>
          <a:ext cx="6840360" cy="906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440"/>
                    <a:ext cx="6840360" cy="906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328104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35760" y="868680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5160" y="6934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99000" y="7632720"/>
            <a:ext cx="6112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81040" y="8261280"/>
            <a:ext cx="17722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80360" y="6632640"/>
            <a:ext cx="678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60200" y="7620120"/>
            <a:ext cx="757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2,603.6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05800" y="800100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8153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57240" y="815328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90600" y="762012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54840" y="4800600"/>
            <a:ext cx="719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12,589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55640" y="6934320"/>
            <a:ext cx="134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Days Late           1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ight                  (36.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8000" y="4648320"/>
            <a:ext cx="3936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*2020  76-9505  117096.Z0-43AJ  W91CMD*11611290/NBAH S09076    $ 1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328104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200" y="76834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52320" y="855180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29040" y="7659720"/>
            <a:ext cx="1270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nthony Rober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06120" y="689760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82000" y="8491680"/>
            <a:ext cx="1281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Marsa Rodrigue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5740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67080" y="5257800"/>
            <a:ext cx="20340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080" y="5410080"/>
            <a:ext cx="20340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080" y="5562720"/>
            <a:ext cx="20340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557280" y="46836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93480" y="38268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46640" y="588960"/>
            <a:ext cx="2003400" cy="13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853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343400" y="12952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153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25040" y="620640"/>
            <a:ext cx="1352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7109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68600" y="86040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64120" y="968400"/>
            <a:ext cx="793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66520" y="1314360"/>
            <a:ext cx="1596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2/10,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30800" y="152388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65560" y="1523880"/>
            <a:ext cx="14558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F-04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. O. #00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34240" y="550800"/>
            <a:ext cx="183168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03 GIBS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ENNVILLE, GA 304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30400" y="150804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6240" y="174456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889440" y="2106720"/>
            <a:ext cx="261720" cy="288720"/>
            <a:chOff x="3889440" y="2106720"/>
            <a:chExt cx="261720" cy="288720"/>
          </a:xfrm>
        </p:grpSpPr>
        <p:sp>
          <p:nvSpPr>
            <p:cNvPr id="600" name=""/>
            <p:cNvSpPr/>
            <p:nvPr/>
          </p:nvSpPr>
          <p:spPr>
            <a:xfrm flipV="1">
              <a:off x="41511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89440" y="2387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49440" y="2106720"/>
            <a:ext cx="280800" cy="288720"/>
            <a:chOff x="649440" y="2106720"/>
            <a:chExt cx="280800" cy="288720"/>
          </a:xfrm>
        </p:grpSpPr>
        <p:sp>
          <p:nvSpPr>
            <p:cNvPr id="603" name=""/>
            <p:cNvSpPr/>
            <p:nvPr/>
          </p:nvSpPr>
          <p:spPr>
            <a:xfrm flipV="1">
              <a:off x="6555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49440" y="2387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889440" y="1430280"/>
            <a:ext cx="261720" cy="273240"/>
            <a:chOff x="3889440" y="1430280"/>
            <a:chExt cx="261720" cy="273240"/>
          </a:xfrm>
        </p:grpSpPr>
        <p:sp>
          <p:nvSpPr>
            <p:cNvPr id="606" name=""/>
            <p:cNvSpPr/>
            <p:nvPr/>
          </p:nvSpPr>
          <p:spPr>
            <a:xfrm>
              <a:off x="4151160" y="14400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89440" y="14302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125360" y="2481120"/>
            <a:ext cx="20160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6600" y="261000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45040" y="338148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24680" y="377028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06360" y="3780000"/>
            <a:ext cx="161352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BM, Computer, 486D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33080" y="377028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56160" y="3755880"/>
            <a:ext cx="7556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93080" y="3770280"/>
            <a:ext cx="9738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9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1880" y="493380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66200" y="3776760"/>
            <a:ext cx="419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50040" y="414504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50040" y="452448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50040" y="490680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50040" y="53229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36240" y="582300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44920" y="5823000"/>
            <a:ext cx="930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589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49440" y="1433520"/>
            <a:ext cx="280800" cy="266760"/>
            <a:chOff x="649440" y="1433520"/>
            <a:chExt cx="280800" cy="266760"/>
          </a:xfrm>
        </p:grpSpPr>
        <p:sp>
          <p:nvSpPr>
            <p:cNvPr id="655" name=""/>
            <p:cNvSpPr/>
            <p:nvPr/>
          </p:nvSpPr>
          <p:spPr>
            <a:xfrm>
              <a:off x="655560" y="14367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49440" y="1433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40520" y="418608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28680" y="4195800"/>
            <a:ext cx="1403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BM  Color Monito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48640" y="4186080"/>
            <a:ext cx="2908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41000" y="418608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54720" y="418608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28080" y="418608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37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40520" y="454824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91600" y="4564080"/>
            <a:ext cx="1365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er Jet IV Pr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48640" y="4548240"/>
            <a:ext cx="2908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50720" y="454824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54720" y="454824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28080" y="454824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12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4680" y="491652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79600" y="4906800"/>
            <a:ext cx="3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51440" y="4906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59200" y="491652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29520" y="491652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  99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16080" y="4932360"/>
            <a:ext cx="1167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ight Char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17640" y="3770280"/>
            <a:ext cx="759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00600" y="24796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0880" y="241200"/>
            <a:ext cx="295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REHENSIVE PRACTICAL EXERC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9840" y="1585800"/>
            <a:ext cx="626328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are a voucher examiner working in the Accounts Payable Branch at F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wart, GA. This supplement  contains  pages 1- 68.  You will use these documents  to comple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stions 1-52 in the Practical Exerci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have received various contractual documents into your office, to includ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400" y="86868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1160" y="868680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9720" y="2500200"/>
            <a:ext cx="379152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DD Form 1155, Copy 1 (Contract &amp; Payment Voucher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DD Form 1155, Copy 8 (Receiving Repor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SF 33s (Contrac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DA Forms 3900 (Bills Register Card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DD Form 250 (Receiving Repor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.  SF Form 1034 (Payment Voucher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.  Vendor’s Invo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960" y="379440"/>
            <a:ext cx="1627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33160" y="449280"/>
            <a:ext cx="162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2720" y="480960"/>
            <a:ext cx="586080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DO NOT WRITE IN THIS BOOKLET. YOU WILL TURN IT IN TO YOUR INSTRUCTOR UP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COMPLETION OF THE AIMS ANSWER SHE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7920" y="5229360"/>
            <a:ext cx="62571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TO INSTRUCTOR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Allow 6 periods for the class to complete the Comprehensive Pract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ercise and review in the remaining 2 periods to ensure all questions are resolved. Each stud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st be provided an AIMS Answer Sheet and Payment Due Date Shee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26080" y="86868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264840" y="13636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6516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86360" y="5397480"/>
            <a:ext cx="45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56520" y="5397480"/>
            <a:ext cx="310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62040" y="5397480"/>
            <a:ext cx="578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0.267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0.33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33080" y="5397480"/>
            <a:ext cx="738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606.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861.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00040" y="6851520"/>
            <a:ext cx="674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,468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61722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78640" y="6708600"/>
            <a:ext cx="74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29040" y="7620120"/>
            <a:ext cx="597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24.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05800" y="808020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92640" y="80773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0920" y="822960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90600" y="762012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49480" y="472428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24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81120" y="7010280"/>
            <a:ext cx="1388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nvoice         (2,643.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4114800" y="5403960"/>
            <a:ext cx="68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,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3280680" y="13572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4880" y="89298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80320" y="8929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35760" y="892980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1120" y="768348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13440" y="7659720"/>
            <a:ext cx="9612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obert Gill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6745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52480" y="61722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5397480"/>
            <a:ext cx="761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26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3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91320" y="5375160"/>
            <a:ext cx="6858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606.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861.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114800" y="5486400"/>
            <a:ext cx="4572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114800" y="5715000"/>
            <a:ext cx="4572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09840" y="55008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94000" y="58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0" y="57276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542304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1320" y="6867360"/>
            <a:ext cx="685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46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>
            <a:off x="4361400" y="645156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240880" y="6411960"/>
            <a:ext cx="789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. P. Get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59360" y="4289400"/>
            <a:ext cx="45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267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37200" y="4287960"/>
            <a:ext cx="504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4040" y="4289400"/>
            <a:ext cx="578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18280" y="4289400"/>
            <a:ext cx="342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33080" y="4289400"/>
            <a:ext cx="675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1.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19760" y="4565520"/>
            <a:ext cx="450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2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18280" y="4565520"/>
            <a:ext cx="342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9360" y="4565520"/>
            <a:ext cx="450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34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68800" y="4565520"/>
            <a:ext cx="546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2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03360" y="52578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01040" y="86868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51960" y="8686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78360" y="86868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6200" y="44956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86200" y="41911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880920" y="5686560"/>
            <a:ext cx="2256120" cy="709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18280" y="5548320"/>
            <a:ext cx="784080" cy="276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6280" y="3538440"/>
            <a:ext cx="5356080" cy="373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6280" y="4300560"/>
            <a:ext cx="5356080" cy="372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46280" y="5068800"/>
            <a:ext cx="5356080" cy="373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46280" y="3922560"/>
            <a:ext cx="5356080" cy="3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46280" y="4684680"/>
            <a:ext cx="5356080" cy="37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396720"/>
            <a:ext cx="364032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LLOG SAND AND GRAVEL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11 WEST DAYTON A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AN, GA  304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26280" y="1276200"/>
            <a:ext cx="1104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OICE 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17440" y="1276200"/>
            <a:ext cx="612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26280" y="1623960"/>
            <a:ext cx="10270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DER 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06640" y="1292400"/>
            <a:ext cx="723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12-L-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21880" y="1292400"/>
            <a:ext cx="81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69920" y="1638360"/>
            <a:ext cx="1316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M-34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0360" y="2154240"/>
            <a:ext cx="1640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54600" y="2154240"/>
            <a:ext cx="1513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2160" y="2533680"/>
            <a:ext cx="1394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 Gloucester R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tton Under Ed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49560" y="2533680"/>
            <a:ext cx="1394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 Gloucester R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tton Under Ed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1880" y="2398680"/>
            <a:ext cx="2138400" cy="6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5400" y="2398680"/>
            <a:ext cx="2138400" cy="6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6280" y="3192480"/>
            <a:ext cx="5356080" cy="18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29000" y="3263760"/>
            <a:ext cx="5451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                        Description                    Qty                 Unit Price                  Pr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15760" y="3641760"/>
            <a:ext cx="5353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        General Construction Gravel     1500 lb               0.2678                 401.70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21880" y="4403880"/>
            <a:ext cx="5346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        General Construction Sand       1250 lb               0.3482                 435.25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92240" y="5581800"/>
            <a:ext cx="473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20440" y="5581800"/>
            <a:ext cx="668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36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0320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9076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9420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2296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064160" y="5710320"/>
            <a:ext cx="18864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JUNE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1040" y="86868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51960" y="8686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78360" y="86868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5410080" y="4419360"/>
            <a:ext cx="69084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410080" y="5625720"/>
            <a:ext cx="596880" cy="1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356000" y="4419720"/>
            <a:ext cx="825480" cy="16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63280" y="4038480"/>
            <a:ext cx="56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33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85680" y="4038480"/>
            <a:ext cx="56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33040" y="586728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824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3280680" y="13636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023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061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042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5512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8152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78640" y="6708600"/>
            <a:ext cx="74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60560" y="762012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,801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05800" y="808020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40000" y="82296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580920" y="822960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90600" y="762012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54480" y="4818240"/>
            <a:ext cx="66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5,801.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179680" y="7010280"/>
            <a:ext cx="1362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unt              (118.3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0" y="0"/>
          <a:ext cx="6840360" cy="89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89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280680" y="13320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1120" y="754524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05520" y="83599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69160" y="85345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06120" y="67597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56400" y="7451640"/>
            <a:ext cx="860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Carl Ban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031760" y="8283600"/>
            <a:ext cx="1161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Thomas Mo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180680" y="5246640"/>
            <a:ext cx="290880" cy="220320"/>
            <a:chOff x="4180680" y="5246640"/>
            <a:chExt cx="290880" cy="220320"/>
          </a:xfrm>
        </p:grpSpPr>
        <p:sp>
          <p:nvSpPr>
            <p:cNvPr id="808" name=""/>
            <p:cNvSpPr/>
            <p:nvPr/>
          </p:nvSpPr>
          <p:spPr>
            <a:xfrm>
              <a:off x="4226040" y="5246640"/>
              <a:ext cx="188640" cy="1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80680" y="5246640"/>
              <a:ext cx="2908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283640" y="5391000"/>
            <a:ext cx="290880" cy="220320"/>
            <a:chOff x="4283640" y="5391000"/>
            <a:chExt cx="290880" cy="220320"/>
          </a:xfrm>
        </p:grpSpPr>
        <p:sp>
          <p:nvSpPr>
            <p:cNvPr id="811" name=""/>
            <p:cNvSpPr/>
            <p:nvPr/>
          </p:nvSpPr>
          <p:spPr>
            <a:xfrm>
              <a:off x="4329000" y="5391000"/>
              <a:ext cx="189000" cy="1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83640" y="5391000"/>
              <a:ext cx="2908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144792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4200" y="86104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255120" y="8610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410080" y="85345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5334120"/>
            <a:ext cx="20340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35440" y="542304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35440" y="55627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51814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"/>
          <p:cNvSpPr/>
          <p:nvPr/>
        </p:nvSpPr>
        <p:spPr>
          <a:xfrm>
            <a:off x="2203920" y="68515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54920" y="644220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004200" y="6827760"/>
            <a:ext cx="860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Carl Ban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286960" y="6411960"/>
            <a:ext cx="780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Fred Car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47920" y="52578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0420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55120" y="8620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10080" y="86104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14800" y="41911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4800" y="44956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208080" y="3486240"/>
            <a:ext cx="6433920" cy="1865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7160" y="504720"/>
            <a:ext cx="6403680" cy="2305080"/>
          </a:xfrm>
          <a:prstGeom prst="rect">
            <a:avLst/>
          </a:prstGeom>
          <a:solidFill>
            <a:srgbClr val="cecec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59320" y="708120"/>
            <a:ext cx="241812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MITH CORONA INCORPO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121 LUDLOW STRE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TON, OHIO  451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62200" y="1816200"/>
            <a:ext cx="21042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7200" y="1998720"/>
            <a:ext cx="708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51760" y="633240"/>
            <a:ext cx="12722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50320" y="1011240"/>
            <a:ext cx="106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OIC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552120" y="1395360"/>
            <a:ext cx="1209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94920" y="1395360"/>
            <a:ext cx="1209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FI01-**-M-8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94560" y="1017720"/>
            <a:ext cx="8074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93120" y="669960"/>
            <a:ext cx="6962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3 - 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39680" y="436680"/>
            <a:ext cx="6578640" cy="24588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2240" y="3232080"/>
            <a:ext cx="6211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QUANTITY                  DESCRIPTION                   UNIT PRIC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7200" y="3295800"/>
            <a:ext cx="28008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93480" y="3657600"/>
            <a:ext cx="3960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135520" y="3657600"/>
            <a:ext cx="23346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mith Corona Typewriter #056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5A Model Ribbons #05619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5A Model Corr. Ribbons #05619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lculator, Battery Op.  #056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690080" y="3657600"/>
            <a:ext cx="5940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7.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65760" y="3657600"/>
            <a:ext cx="78912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4,798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49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598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47.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63640" y="312588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43000" y="314316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27640" y="314316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76760" y="314316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7160" y="3505320"/>
            <a:ext cx="6395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289040" y="5448240"/>
            <a:ext cx="12294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67560" y="546408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,919.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75320" y="5424480"/>
            <a:ext cx="106668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2360" y="5557680"/>
            <a:ext cx="3932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1600" y="3157560"/>
            <a:ext cx="6440400" cy="34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76520" y="5791320"/>
            <a:ext cx="167616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0420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255120" y="8620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738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5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325872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26520" y="22795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9421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5395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59850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04200" y="87724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30920" y="6708600"/>
            <a:ext cx="74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60560" y="762012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,205.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05800" y="808020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40000" y="82296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80920" y="822960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90600" y="762012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07080" y="4724280"/>
            <a:ext cx="66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 8,2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79680" y="7010280"/>
            <a:ext cx="1362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unt              (124.9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"/>
          <p:cNvSpPr/>
          <p:nvPr/>
        </p:nvSpPr>
        <p:spPr>
          <a:xfrm>
            <a:off x="326520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94840" y="231156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7720" y="7715160"/>
            <a:ext cx="6595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405520" y="85471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691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44000" y="8491680"/>
            <a:ext cx="1036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Chris Wes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317600" y="7659720"/>
            <a:ext cx="939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. Mahon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6745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47920" y="59850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4200" y="87724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2704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267360" y="1357200"/>
            <a:ext cx="673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Apri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66440" y="689148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6019920"/>
            <a:ext cx="1600200" cy="547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46040" y="601992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39520" y="480060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124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1240" y="4648320"/>
            <a:ext cx="4863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*2020  76-9505  117096.Z0-43AJ  W91CMD*11611290/NBAH S09076             $        3.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000" y="6705720"/>
            <a:ext cx="76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1680" y="6981840"/>
            <a:ext cx="1304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 Days                   3.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0560" y="762012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128.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5800" y="8077320"/>
            <a:ext cx="1414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0" y="82296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240" y="822960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90600" y="768672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981680" y="4700520"/>
            <a:ext cx="1216080" cy="2080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0520" y="3470400"/>
            <a:ext cx="5637240" cy="2775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60520" y="3862440"/>
            <a:ext cx="5637240" cy="2793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60520" y="4248000"/>
            <a:ext cx="5637240" cy="277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1480" y="260280"/>
            <a:ext cx="3165120" cy="72252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STON COMPUTER FURNI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11 HOLSTON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SHVILLE, TN  46912-0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01840" y="1322280"/>
            <a:ext cx="877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577800" y="1568520"/>
            <a:ext cx="2933640" cy="736560"/>
            <a:chOff x="577800" y="1568520"/>
            <a:chExt cx="2933640" cy="736560"/>
          </a:xfrm>
        </p:grpSpPr>
        <p:sp>
          <p:nvSpPr>
            <p:cNvPr id="905" name=""/>
            <p:cNvSpPr/>
            <p:nvPr/>
          </p:nvSpPr>
          <p:spPr>
            <a:xfrm>
              <a:off x="577800" y="1568520"/>
              <a:ext cx="2933640" cy="73656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9600" y="1665360"/>
              <a:ext cx="20160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TN:  DOI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T STEWART, GA  313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532040" y="236520"/>
            <a:ext cx="13834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626000" y="433440"/>
            <a:ext cx="1695600" cy="283680"/>
            <a:chOff x="4626000" y="433440"/>
            <a:chExt cx="1695600" cy="283680"/>
          </a:xfrm>
        </p:grpSpPr>
        <p:sp>
          <p:nvSpPr>
            <p:cNvPr id="909" name=""/>
            <p:cNvSpPr/>
            <p:nvPr/>
          </p:nvSpPr>
          <p:spPr>
            <a:xfrm>
              <a:off x="4645080" y="43344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26000" y="466560"/>
              <a:ext cx="706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7190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533120" y="744480"/>
            <a:ext cx="53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4643280" y="939960"/>
            <a:ext cx="1678320" cy="267840"/>
            <a:chOff x="4643280" y="939960"/>
            <a:chExt cx="1678320" cy="267840"/>
          </a:xfrm>
        </p:grpSpPr>
        <p:sp>
          <p:nvSpPr>
            <p:cNvPr id="913" name=""/>
            <p:cNvSpPr/>
            <p:nvPr/>
          </p:nvSpPr>
          <p:spPr>
            <a:xfrm>
              <a:off x="4645080" y="93996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43280" y="957240"/>
              <a:ext cx="7707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JULY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533480" y="1222200"/>
            <a:ext cx="1311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630680" y="1420920"/>
            <a:ext cx="1690920" cy="275760"/>
            <a:chOff x="4630680" y="1420920"/>
            <a:chExt cx="1690920" cy="275760"/>
          </a:xfrm>
        </p:grpSpPr>
        <p:sp>
          <p:nvSpPr>
            <p:cNvPr id="917" name=""/>
            <p:cNvSpPr/>
            <p:nvPr/>
          </p:nvSpPr>
          <p:spPr>
            <a:xfrm>
              <a:off x="4645080" y="142092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30680" y="1446120"/>
              <a:ext cx="1316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FI01-**-M-416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532760" y="1685880"/>
            <a:ext cx="1421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OUNT 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23120" y="1878120"/>
            <a:ext cx="1698480" cy="256680"/>
            <a:chOff x="4623120" y="1878120"/>
            <a:chExt cx="1698480" cy="256680"/>
          </a:xfrm>
        </p:grpSpPr>
        <p:sp>
          <p:nvSpPr>
            <p:cNvPr id="921" name=""/>
            <p:cNvSpPr/>
            <p:nvPr/>
          </p:nvSpPr>
          <p:spPr>
            <a:xfrm>
              <a:off x="4645080" y="187812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23120" y="1884240"/>
              <a:ext cx="1105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5/20, NET 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660600" y="3078000"/>
            <a:ext cx="5260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S ORDERED              QTY             UNIT COST    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7800" y="3029040"/>
            <a:ext cx="5607000" cy="322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1680" y="3429000"/>
            <a:ext cx="5613120" cy="115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4643280"/>
            <a:ext cx="5607000" cy="32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880" y="3503520"/>
            <a:ext cx="2181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Stations Model BA - 36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60520" y="3809880"/>
            <a:ext cx="563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0520" y="4194000"/>
            <a:ext cx="563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84520" y="342432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05320" y="342900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046840" y="342432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44440" y="3503520"/>
            <a:ext cx="318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1720" y="3503520"/>
            <a:ext cx="591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33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29360" y="350352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33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684520" y="30078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492360" y="30078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054760" y="30078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479760" y="4708440"/>
            <a:ext cx="1401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 This B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29360" y="469260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33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61440" y="6195960"/>
            <a:ext cx="33084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UNT EFFECTIVENESS C0MPAR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2320" y="6683400"/>
            <a:ext cx="3062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:  2/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02                  360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   X    -----------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00-.02             30-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02                  3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   X    -----------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98                   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020408   X   18  =  .367344 X 100 = 36.73 %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652920" y="6662880"/>
            <a:ext cx="124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:  1.5/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66160" y="6872400"/>
            <a:ext cx="30232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015                  3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-    X    ------------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00-.015             30-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015                  3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-    X    ---------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985                    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015228    X   36  =  .548208 X100  = 54.82 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207040" y="6114960"/>
            <a:ext cx="1263600" cy="1027080"/>
          </a:xfrm>
          <a:custGeom>
            <a:avLst/>
            <a:gdLst>
              <a:gd name="textAreaLeft" fmla="*/ 46800 w 1263600"/>
              <a:gd name="textAreaRight" fmla="*/ 1216800 w 1263600"/>
              <a:gd name="textAreaTop" fmla="*/ 37800 h 1027080"/>
              <a:gd name="textAreaBottom" fmla="*/ 820440 h 1027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80400" y="6292800"/>
            <a:ext cx="14155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 EFFEC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OU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CENTAGE !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48320" y="228600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43200" y="5257800"/>
            <a:ext cx="167004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DO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04200" y="87724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2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3264840" y="13636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41120" y="689760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4200" y="87724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43400" y="601992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2982240" y="30636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956600" y="592200"/>
            <a:ext cx="2704680" cy="63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ROUGHS OFFICE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 THURSTON BOULE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ESVILLE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33000" y="1563840"/>
            <a:ext cx="6111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DAFI01-**-C-1321/D. O. #0110                                                               30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4840" y="1909800"/>
            <a:ext cx="12859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VOICE #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71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6040" y="2395440"/>
            <a:ext cx="6290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SCRIPTION  SUPPLIES/SERVICES              QTY              UNIT COST                TOTAL C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50880" y="2809800"/>
            <a:ext cx="3451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Repairs to Microfiche printer, building #24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7640" y="3097080"/>
            <a:ext cx="2304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R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CREEN MICROFICH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LBS, MICROFIC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NER, MICROFIC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34240" y="3263760"/>
            <a:ext cx="54504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 B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 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21000" y="3263760"/>
            <a:ext cx="59256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2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4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1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91240" y="2778120"/>
            <a:ext cx="6382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2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3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39480" y="4618080"/>
            <a:ext cx="243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MOUNT BILLED                $130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64320" y="5184720"/>
            <a:ext cx="1625760" cy="585360"/>
          </a:xfrm>
          <a:prstGeom prst="rect">
            <a:avLst/>
          </a:prstGeom>
          <a:noFill/>
          <a:ln w="1015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56200" y="5738760"/>
            <a:ext cx="1482480" cy="585360"/>
          </a:xfrm>
          <a:prstGeom prst="rect">
            <a:avLst/>
          </a:prstGeom>
          <a:noFill/>
          <a:ln w="1015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US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DOI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7960" y="6620040"/>
            <a:ext cx="56599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certify we have received and accepted the services called for in DAFI01-**-C-1321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livery Order #011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04920" y="7313760"/>
            <a:ext cx="2221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. P. HOLLOWAY, DOIM, US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36840" y="7026120"/>
            <a:ext cx="1237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Handwriting"/>
              </a:rPr>
              <a:t>R. P. Hollo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4200" y="87724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0" y="0"/>
          <a:ext cx="6840360" cy="912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2" name=""/>
          <p:cNvSpPr/>
          <p:nvPr/>
        </p:nvSpPr>
        <p:spPr>
          <a:xfrm>
            <a:off x="275400" y="88488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5512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7024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7680" y="819000"/>
            <a:ext cx="176148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273840" y="749160"/>
            <a:ext cx="6472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272040" y="1027080"/>
            <a:ext cx="14122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FI01-**-C-1321, 01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3840" y="1303200"/>
            <a:ext cx="6915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 06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221440" y="1165320"/>
            <a:ext cx="1025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23240" y="2135160"/>
            <a:ext cx="583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22160" y="2413080"/>
            <a:ext cx="725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/10, N/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224320" y="2689200"/>
            <a:ext cx="491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387800" y="1857240"/>
            <a:ext cx="16380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roughs Office Equip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47 Thurston Blv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nesville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3480" y="3521160"/>
            <a:ext cx="4186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1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9440" y="3521160"/>
            <a:ext cx="462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855080" y="3530520"/>
            <a:ext cx="1891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detailed bill herewith attach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ed 30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59120" y="3521160"/>
            <a:ext cx="578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30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859760" y="4629240"/>
            <a:ext cx="16912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Due Date:  7 AUG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95480" y="4800600"/>
            <a:ext cx="578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30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5480" y="5486400"/>
            <a:ext cx="578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30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743480" y="6153120"/>
            <a:ext cx="37155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lter Cory, LTC, F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9360" y="6777000"/>
            <a:ext cx="4188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*2020 76-9601 512914.00-2572 W91USR*1811321/A526  S09076   $130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55680" y="7539120"/>
            <a:ext cx="1656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$130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7280" y="533412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                   1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2600280" y="306360"/>
            <a:ext cx="1808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GRESS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78680" y="871560"/>
            <a:ext cx="561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are a voucher examiner assigned to the Accounts Payable Branch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perating Location at Fort Stewart, GA.  You have the following document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453680" y="1494000"/>
            <a:ext cx="266976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SF 33, Contract (Progress Paymen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Certificate of Perform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SF 1034, Payment Vouc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DA 3900, Blank Bills Register C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51400" y="2994120"/>
            <a:ext cx="5542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must prepare the SF 1034, payment voucher, for this prog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yment based on the supporting documents listed above, then post the Bills Regis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2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"/>
          <p:cNvSpPr/>
          <p:nvPr/>
        </p:nvSpPr>
        <p:spPr>
          <a:xfrm>
            <a:off x="5767920" y="5119560"/>
            <a:ext cx="5515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078080" y="6481800"/>
            <a:ext cx="1075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ulie Sher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539520" y="81439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19720" y="106668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MARCH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788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83280" y="86104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140120" y="385920"/>
            <a:ext cx="530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Page 2 of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9080" y="731880"/>
            <a:ext cx="4884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erman Painting Incorporated, 1000 Stedman Drive, Hinesville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28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02600" y="1425600"/>
            <a:ext cx="6545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                 SUPPLIES/SERVICES                       QTY                UNIT            PRICE     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81480" y="1219320"/>
            <a:ext cx="488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8600" y="167652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560" y="1771560"/>
            <a:ext cx="331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1         Painting and renovation of govern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arters, buildings 100-118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86600" y="2255760"/>
            <a:ext cx="2727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iod of operation:  1 April - 30 Sep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s the removal of old paint and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lication of a new coat of paint to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erior of buildings 100-118.  Als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s the painting of the interior roo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buildings 100-110.  The paint will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ither latex or enamel colo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ri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Blue with white tri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teri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64920" y="2255760"/>
            <a:ext cx="2355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job                              $24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46240" y="4125960"/>
            <a:ext cx="618984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Payment method.  An authorized government representative will approve progres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yments based upon percentage of comple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stomary progress payment made at 90% comple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The contractor will obtain and purchase materials and supplies and charges will inclu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se cos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contractor will submit the invoices directly to the office specified by the contra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Make payment at Net 1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4749840" y="4856040"/>
            <a:ext cx="16668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8080" y="3400560"/>
            <a:ext cx="6237000" cy="2523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06080" y="333360"/>
            <a:ext cx="2439720" cy="25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ERTIFICATE OF PERFORM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21120" y="1587600"/>
            <a:ext cx="621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993240" y="1273320"/>
            <a:ext cx="2979000" cy="7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RECTOR, ENGINEERING AND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BLDG. #1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403200" y="1099800"/>
            <a:ext cx="266760" cy="279720"/>
            <a:chOff x="403200" y="1099800"/>
            <a:chExt cx="266760" cy="279720"/>
          </a:xfrm>
        </p:grpSpPr>
        <p:sp>
          <p:nvSpPr>
            <p:cNvPr id="1039" name=""/>
            <p:cNvSpPr/>
            <p:nvPr/>
          </p:nvSpPr>
          <p:spPr>
            <a:xfrm>
              <a:off x="403200" y="1114560"/>
              <a:ext cx="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409680" y="1099800"/>
              <a:ext cx="2602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3825360" y="1104840"/>
            <a:ext cx="292680" cy="345960"/>
            <a:chOff x="3825360" y="1104840"/>
            <a:chExt cx="292680" cy="345960"/>
          </a:xfrm>
        </p:grpSpPr>
        <p:sp>
          <p:nvSpPr>
            <p:cNvPr id="1042" name=""/>
            <p:cNvSpPr/>
            <p:nvPr/>
          </p:nvSpPr>
          <p:spPr>
            <a:xfrm flipH="1">
              <a:off x="3825360" y="1104840"/>
              <a:ext cx="28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102200" y="1111320"/>
              <a:ext cx="15840" cy="33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376200" y="1966680"/>
            <a:ext cx="273240" cy="301320"/>
            <a:chOff x="376200" y="1966680"/>
            <a:chExt cx="273240" cy="301320"/>
          </a:xfrm>
        </p:grpSpPr>
        <p:sp>
          <p:nvSpPr>
            <p:cNvPr id="1045" name=""/>
            <p:cNvSpPr/>
            <p:nvPr/>
          </p:nvSpPr>
          <p:spPr>
            <a:xfrm>
              <a:off x="393840" y="22622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376200" y="1966680"/>
              <a:ext cx="468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3816360" y="1967040"/>
            <a:ext cx="293760" cy="299880"/>
            <a:chOff x="3816360" y="1967040"/>
            <a:chExt cx="293760" cy="299880"/>
          </a:xfrm>
        </p:grpSpPr>
        <p:sp>
          <p:nvSpPr>
            <p:cNvPr id="1048" name=""/>
            <p:cNvSpPr/>
            <p:nvPr/>
          </p:nvSpPr>
          <p:spPr>
            <a:xfrm flipV="1">
              <a:off x="4103640" y="19670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3816360" y="2249640"/>
              <a:ext cx="29376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4231800" y="1135080"/>
            <a:ext cx="2103840" cy="1192680"/>
            <a:chOff x="4231800" y="1135080"/>
            <a:chExt cx="2103840" cy="1192680"/>
          </a:xfrm>
        </p:grpSpPr>
        <p:sp>
          <p:nvSpPr>
            <p:cNvPr id="1051" name=""/>
            <p:cNvSpPr/>
            <p:nvPr/>
          </p:nvSpPr>
          <p:spPr>
            <a:xfrm>
              <a:off x="4234680" y="1217520"/>
              <a:ext cx="13543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  421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31800" y="1494000"/>
              <a:ext cx="1450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ED:    3 JULY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32880" y="1909800"/>
              <a:ext cx="2102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  DAFI01-**-C-289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64200" y="1135080"/>
              <a:ext cx="2058840" cy="113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257720" y="1486080"/>
              <a:ext cx="20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4262400" y="1890720"/>
              <a:ext cx="206532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227160" y="857160"/>
            <a:ext cx="6269040" cy="1681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0840" y="787320"/>
            <a:ext cx="6437160" cy="1830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9920" y="3087720"/>
            <a:ext cx="6360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PTION OF SERVICES               ESTIMATED COST       PERCENTAGE OF COMPLE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8080" y="3048120"/>
            <a:ext cx="624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08080" y="3325680"/>
            <a:ext cx="624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4200" y="3740040"/>
            <a:ext cx="622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4200" y="3778200"/>
            <a:ext cx="622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1000" y="3054240"/>
            <a:ext cx="4680" cy="6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152960" y="3054240"/>
            <a:ext cx="6120" cy="6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71360" y="3441600"/>
            <a:ext cx="5553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NTING OF BUILDINGS 100 - 118                          $24,000.00                                                          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6480" y="4048200"/>
            <a:ext cx="2578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OUNT CLAIMED FOR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00800" y="4092480"/>
            <a:ext cx="28738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0 JUNE   **                                        =           $7,2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82160" y="4532400"/>
            <a:ext cx="30949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ESS RETAINED PERCENTAGE @ 10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91520" y="4594320"/>
            <a:ext cx="994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          $   72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16160" y="4878360"/>
            <a:ext cx="1212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AMOU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35680" y="4940280"/>
            <a:ext cx="644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6,48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068640" y="4856040"/>
            <a:ext cx="1668600" cy="26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6120" y="5294160"/>
            <a:ext cx="25282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COUNTING CLASS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753640" y="5356080"/>
            <a:ext cx="3466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*2020  76-9505  192131.13-257H  W91DEH*00602891/KFDE  S090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1960" y="5780160"/>
            <a:ext cx="8578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END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058400" y="5853240"/>
            <a:ext cx="14184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RMAN PAINTING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 STEDMAN DR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NESVILLE, GA  313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73880" y="6100920"/>
            <a:ext cx="2072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E SHERMAN, GENERAL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7200" y="6541920"/>
            <a:ext cx="1374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ERT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21000" y="6586560"/>
            <a:ext cx="4684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CERTIFY THE SERVICES LISTED ON THIS INVOICE ARE AN ACCURATE REPRE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SERVICES PERFORMED.  SERVICES ACCEPTED 5 JULY **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21360" y="7521480"/>
            <a:ext cx="21697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.D. P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ING AND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36680" y="5857920"/>
            <a:ext cx="1075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ulie Sher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51320" y="7243920"/>
            <a:ext cx="860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Handwriting"/>
              </a:rPr>
              <a:t>W. D. P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731520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24280" y="5562720"/>
            <a:ext cx="175284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DE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9" name=""/>
          <p:cNvGraphicFramePr/>
          <p:nvPr/>
        </p:nvGraphicFramePr>
        <p:xfrm>
          <a:off x="0" y="0"/>
          <a:ext cx="6840360" cy="912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"/>
          <p:cNvSpPr/>
          <p:nvPr/>
        </p:nvSpPr>
        <p:spPr>
          <a:xfrm>
            <a:off x="3212280" y="88390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7880" y="883908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02400" y="86868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76640" y="914400"/>
            <a:ext cx="17802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75600" y="762120"/>
            <a:ext cx="666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445920" y="1054080"/>
            <a:ext cx="1303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FI01 - ** - C - 28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675600" y="1295280"/>
            <a:ext cx="710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 03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209560" y="1143000"/>
            <a:ext cx="1115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62000" y="2133720"/>
            <a:ext cx="601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1640" y="2438280"/>
            <a:ext cx="57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563080" y="2666880"/>
            <a:ext cx="510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28320" y="1981080"/>
            <a:ext cx="2273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ERMAN PAINTING INCORPORA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0 STEDMAN DR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NESVILLE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4640" y="3581280"/>
            <a:ext cx="1185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2146            5 JU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848240" y="3581280"/>
            <a:ext cx="2269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ESS PAYMENT PER DETAI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LL HEREWITH ATTACHED, DA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 JULY **, @ 30% COMPLE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36520" y="358128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7,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827720" y="4572000"/>
            <a:ext cx="1999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DUE DATE:  19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658840" y="478800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7,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511520" y="520056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SS 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AIN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13560" y="5334120"/>
            <a:ext cx="609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720.0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658840" y="548640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6,4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0880" y="5586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645560" y="6172200"/>
            <a:ext cx="1516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LTER CORY, LTC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343760" y="6172200"/>
            <a:ext cx="1424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6360" y="6858000"/>
            <a:ext cx="4806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*2020  76-9505  192131.13-257H  W91DEH*00602891/KFDE  S09076            $6,4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31920" y="7543800"/>
            <a:ext cx="934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$6,4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80640" y="5562720"/>
            <a:ext cx="39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2408400" y="282600"/>
            <a:ext cx="2181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VOUCH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07600" y="647640"/>
            <a:ext cx="5870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are a voucher examiner assigned to the Accounts Payable Branch at F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wart, GA.  You have the following documents in your offic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112760" y="1346040"/>
            <a:ext cx="505296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F 44 Copy 1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Contract, Invoice, Receiving Report , and Payment Vouc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Vendors 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5520" y="2463840"/>
            <a:ext cx="41983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Prepare the miscellaneous payment vouch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1280" y="2879640"/>
            <a:ext cx="189108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ERAL INFORM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118520" y="3225960"/>
            <a:ext cx="38811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DAY’S 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10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PECTED CHECK PAYMENT 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13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TE INTEREST PENALTY PAY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8.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TEREST ACCOUNTING CLASSIFIC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*2020  76-9505  111011.00-43AJ  SDN/APC  S090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6019920"/>
            <a:ext cx="14479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275280" y="1371600"/>
            <a:ext cx="673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Apri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729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48560" y="7659720"/>
            <a:ext cx="793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ay J. B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3160" y="8491680"/>
            <a:ext cx="12920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Thomas Edwa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2120" y="8515440"/>
            <a:ext cx="6595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46040" y="601992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5562720"/>
            <a:ext cx="20340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52578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265480" y="7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0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060280" y="102240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OODYEAR PARTS &amp; SERVIC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1 SUNSE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NESVILLE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044800" y="1617840"/>
            <a:ext cx="193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ARMY RESERV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3000" y="225576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45600" y="22366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02956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9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004480" y="3841920"/>
            <a:ext cx="171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  1 Aug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81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49400" y="4370400"/>
            <a:ext cx="7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% 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25728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38560" y="578340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27520" y="60199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31840" y="604512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273040" y="690408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326040" y="691200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B.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647600" y="696276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47040" y="327672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044440" y="245736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diator H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45600" y="24382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59792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9328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44440" y="26859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ndshield Wip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945600" y="26668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598280" y="2666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093280" y="26668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9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043720" y="2838600"/>
            <a:ext cx="6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il Fil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945600" y="281952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597920" y="2819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93280" y="2819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42280" y="3032280"/>
            <a:ext cx="15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235-15, Goodyear T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945240" y="3013200"/>
            <a:ext cx="46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597920" y="30132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029560" y="30132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38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1228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890960" y="532116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81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409360" y="6083280"/>
            <a:ext cx="919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30 = 1 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rot="16200000">
            <a:off x="5715000" y="5950080"/>
            <a:ext cx="139680" cy="139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410080" y="5715000"/>
            <a:ext cx="72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/30 P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08640" y="7074000"/>
            <a:ext cx="958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10 = 12  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rot="16200000">
            <a:off x="5651640" y="6940440"/>
            <a:ext cx="139680" cy="139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86760" y="667692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P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039400" y="7620120"/>
            <a:ext cx="1235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71440" y="739152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81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875120" y="739152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81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0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058480" y="1022400"/>
            <a:ext cx="20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cDUFFIE LOCKS &amp; SAF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512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044800" y="1617840"/>
            <a:ext cx="193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ARMY RESERV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043360" y="2255760"/>
            <a:ext cx="126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eld Safes,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45600" y="22366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9756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93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02956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86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004120" y="3841920"/>
            <a:ext cx="170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  16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808520" y="40514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,055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650120" y="437040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 % 3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2304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1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97960" y="578340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927520" y="60199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147040" y="327672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043360" y="245736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sh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45600" y="24382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9792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4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9328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21228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871520" y="5321160"/>
            <a:ext cx="69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,055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055240" y="7391520"/>
            <a:ext cx="69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,055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58480" y="7620120"/>
            <a:ext cx="1235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98440" y="7607160"/>
            <a:ext cx="69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,055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557280" y="711360"/>
            <a:ext cx="3678120" cy="27334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893480" y="68580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4325040" y="911160"/>
            <a:ext cx="2053800" cy="1373760"/>
            <a:chOff x="4325040" y="911160"/>
            <a:chExt cx="2053800" cy="1373760"/>
          </a:xfrm>
        </p:grpSpPr>
        <p:sp>
          <p:nvSpPr>
            <p:cNvPr id="1400" name=""/>
            <p:cNvSpPr/>
            <p:nvPr/>
          </p:nvSpPr>
          <p:spPr>
            <a:xfrm>
              <a:off x="4346640" y="911160"/>
              <a:ext cx="2003400" cy="13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346640" y="1182600"/>
              <a:ext cx="2011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4357800" y="1514160"/>
              <a:ext cx="19843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51320" y="185868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25040" y="944280"/>
              <a:ext cx="11973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583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368600" y="1184040"/>
              <a:ext cx="772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VO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64120" y="1290600"/>
              <a:ext cx="871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4 JUNE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66160" y="1638360"/>
              <a:ext cx="1418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RMS:  2/10, N/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330800" y="1866960"/>
              <a:ext cx="807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62320" y="1984320"/>
              <a:ext cx="1316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FI01-**-M-045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1123920" y="795240"/>
            <a:ext cx="242892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DUFFIE LOCKS &amp; SAFES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12 CENTER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, GA  314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30400" y="175248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6240" y="198900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3889440" y="2351160"/>
            <a:ext cx="261720" cy="288720"/>
            <a:chOff x="3889440" y="2351160"/>
            <a:chExt cx="261720" cy="288720"/>
          </a:xfrm>
        </p:grpSpPr>
        <p:sp>
          <p:nvSpPr>
            <p:cNvPr id="1414" name=""/>
            <p:cNvSpPr/>
            <p:nvPr/>
          </p:nvSpPr>
          <p:spPr>
            <a:xfrm flipV="1">
              <a:off x="4151160" y="23511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89440" y="2630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649440" y="2351160"/>
            <a:ext cx="280800" cy="288720"/>
            <a:chOff x="649440" y="2351160"/>
            <a:chExt cx="280800" cy="288720"/>
          </a:xfrm>
        </p:grpSpPr>
        <p:sp>
          <p:nvSpPr>
            <p:cNvPr id="1417" name=""/>
            <p:cNvSpPr/>
            <p:nvPr/>
          </p:nvSpPr>
          <p:spPr>
            <a:xfrm flipV="1">
              <a:off x="655560" y="23511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49440" y="2630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889440" y="1674720"/>
            <a:ext cx="261720" cy="273240"/>
            <a:chOff x="3889440" y="1674720"/>
            <a:chExt cx="261720" cy="273240"/>
          </a:xfrm>
        </p:grpSpPr>
        <p:sp>
          <p:nvSpPr>
            <p:cNvPr id="1420" name=""/>
            <p:cNvSpPr/>
            <p:nvPr/>
          </p:nvSpPr>
          <p:spPr>
            <a:xfrm>
              <a:off x="4151160" y="1682640"/>
              <a:ext cx="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889440" y="16747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1130760" y="2725560"/>
            <a:ext cx="2197440" cy="41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.S. ARMY RESERVE CE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06600" y="285444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44680" y="394812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44680" y="4267080"/>
            <a:ext cx="576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5040" y="400536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175760" y="4394160"/>
            <a:ext cx="163476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Safes,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033080" y="439416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57600" y="4384800"/>
            <a:ext cx="7542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459040" y="4394160"/>
            <a:ext cx="8028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990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203480" y="47703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203480" y="51483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203480" y="5530680"/>
            <a:ext cx="1666800" cy="2685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203480" y="594684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52800" y="4390920"/>
            <a:ext cx="7272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052800" y="476892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052800" y="51483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52800" y="553068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052800" y="5946840"/>
            <a:ext cx="7272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280320" y="440064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040280" y="476892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040280" y="51483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040280" y="553068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040280" y="59468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548240" y="4768920"/>
            <a:ext cx="7588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64080" y="514836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64080" y="553068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64080" y="594684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450040" y="476892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50040" y="51483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50040" y="553068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50040" y="5946840"/>
            <a:ext cx="83664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076400" y="3954600"/>
            <a:ext cx="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3900240" y="395460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4463640" y="3954600"/>
            <a:ext cx="1764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378400" y="3954600"/>
            <a:ext cx="0" cy="23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949480" y="395460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57280" y="634536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90880" y="6448320"/>
            <a:ext cx="1467000" cy="22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7240" y="6448320"/>
            <a:ext cx="928800" cy="220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20400" y="644688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12240" y="644688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059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649440" y="1676520"/>
            <a:ext cx="280800" cy="268200"/>
            <a:chOff x="649440" y="1676520"/>
            <a:chExt cx="280800" cy="268200"/>
          </a:xfrm>
        </p:grpSpPr>
        <p:sp>
          <p:nvSpPr>
            <p:cNvPr id="1464" name=""/>
            <p:cNvSpPr/>
            <p:nvPr/>
          </p:nvSpPr>
          <p:spPr>
            <a:xfrm>
              <a:off x="655560" y="16812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649440" y="1676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4986720" y="3048120"/>
            <a:ext cx="14184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2/10, N/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11280" y="4376880"/>
            <a:ext cx="339480" cy="2584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180800" y="4803840"/>
            <a:ext cx="769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Bo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80320" y="478800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033080" y="479412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666320" y="479412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459760" y="4794120"/>
            <a:ext cx="8028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 69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11280" y="5154480"/>
            <a:ext cx="3394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11280" y="5554800"/>
            <a:ext cx="339480" cy="2570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11280" y="5948280"/>
            <a:ext cx="3394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11280" y="4776840"/>
            <a:ext cx="339480" cy="2570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585320" y="243828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12280" y="8620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418640" y="3005280"/>
            <a:ext cx="48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+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92800" y="3309840"/>
            <a:ext cx="929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JULY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4495680" y="440028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5486400" y="647676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562720" y="440028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525560" y="4552920"/>
            <a:ext cx="73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9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516280" y="4572000"/>
            <a:ext cx="73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986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329800" y="6781680"/>
            <a:ext cx="86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055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265480" y="7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02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060640" y="1022400"/>
            <a:ext cx="23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 FOOD SERVIC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98 HARDING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, GA 31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044800" y="1617840"/>
            <a:ext cx="193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ARMY RESERV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043360" y="2255760"/>
            <a:ext cx="82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, W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945600" y="22366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g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98280" y="2236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0295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808880" y="4051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82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649400" y="437040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2 % 5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1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397960" y="578340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27520" y="60199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731840" y="604512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271960" y="69040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KE EL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388680" y="691200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KE EL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647600" y="696276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147040" y="327672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41560" y="2457360"/>
            <a:ext cx="75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, Sk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45600" y="24382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g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598280" y="2438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093280" y="2438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042640" y="26859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, Low 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945600" y="26668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g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598280" y="2666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093280" y="2666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044440" y="2838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945240" y="2819520"/>
            <a:ext cx="58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lb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598280" y="2819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029560" y="28195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43360" y="303228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945240" y="301320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 lb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597920" y="301320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029560" y="301320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1228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27880" y="862020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047760" y="3873600"/>
            <a:ext cx="81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440" y="3873600"/>
            <a:ext cx="978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DAYS L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408280" y="4038480"/>
            <a:ext cx="1050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8219 X  8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 82.12 = 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11160" y="4343400"/>
            <a:ext cx="1077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Interest less t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.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680000" y="5732640"/>
            <a:ext cx="65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8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180400" y="6019920"/>
            <a:ext cx="89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7 = 10  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1160" y="5562720"/>
            <a:ext cx="999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SH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MIXED)  P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rot="16200000">
            <a:off x="5562720" y="5943600"/>
            <a:ext cx="139680" cy="139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174640" y="6934320"/>
            <a:ext cx="921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 5 =  8 JU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410440" y="662940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P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rot="16200000">
            <a:off x="5575320" y="6858000"/>
            <a:ext cx="139680" cy="1396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799160" y="760716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82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059200" y="739152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82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039400" y="7620120"/>
            <a:ext cx="1235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00600" y="2209680"/>
            <a:ext cx="137160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7280" y="31608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93480" y="26820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6640" y="601560"/>
            <a:ext cx="2003400" cy="130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83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2952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523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5040" y="587520"/>
            <a:ext cx="1352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7102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68600" y="83808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63040" y="990720"/>
            <a:ext cx="81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9 MA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8680" y="1295280"/>
            <a:ext cx="124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30800" y="152388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63760" y="1523880"/>
            <a:ext cx="1299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12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. O. #0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0240" y="398520"/>
            <a:ext cx="288756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DY ELECTRONICS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1 EAST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YORK, NY  101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0400" y="133992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240" y="156204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89440" y="1920960"/>
            <a:ext cx="261720" cy="288720"/>
            <a:chOff x="3889440" y="1920960"/>
            <a:chExt cx="261720" cy="288720"/>
          </a:xfrm>
        </p:grpSpPr>
        <p:sp>
          <p:nvSpPr>
            <p:cNvPr id="102" name=""/>
            <p:cNvSpPr/>
            <p:nvPr/>
          </p:nvSpPr>
          <p:spPr>
            <a:xfrm flipV="1">
              <a:off x="4151160" y="19209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9440" y="220176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9440" y="1920960"/>
            <a:ext cx="280800" cy="288720"/>
            <a:chOff x="649440" y="1920960"/>
            <a:chExt cx="280800" cy="288720"/>
          </a:xfrm>
        </p:grpSpPr>
        <p:sp>
          <p:nvSpPr>
            <p:cNvPr id="105" name=""/>
            <p:cNvSpPr/>
            <p:nvPr/>
          </p:nvSpPr>
          <p:spPr>
            <a:xfrm flipV="1">
              <a:off x="655560" y="19209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49440" y="220176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89440" y="1251000"/>
            <a:ext cx="261720" cy="272520"/>
            <a:chOff x="3889440" y="1251000"/>
            <a:chExt cx="261720" cy="272520"/>
          </a:xfrm>
        </p:grpSpPr>
        <p:sp>
          <p:nvSpPr>
            <p:cNvPr id="108" name=""/>
            <p:cNvSpPr/>
            <p:nvPr/>
          </p:nvSpPr>
          <p:spPr>
            <a:xfrm>
              <a:off x="4151160" y="126036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9440" y="1251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91600" y="2270160"/>
            <a:ext cx="23742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6600" y="240048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5040" y="338148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4680" y="377028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20760" y="3780000"/>
            <a:ext cx="170028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, Paper 81/2” x 1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3080" y="377028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760920"/>
            <a:ext cx="74448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9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8800" y="3770280"/>
            <a:ext cx="8456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9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880" y="493380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10840" y="3776760"/>
            <a:ext cx="418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50040" y="414504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50040" y="452448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50040" y="490680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50040" y="53229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36240" y="582300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28080" y="582300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124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49440" y="1257480"/>
            <a:ext cx="280800" cy="266040"/>
            <a:chOff x="649440" y="1257480"/>
            <a:chExt cx="280800" cy="266040"/>
          </a:xfrm>
        </p:grpSpPr>
        <p:sp>
          <p:nvSpPr>
            <p:cNvPr id="157" name=""/>
            <p:cNvSpPr/>
            <p:nvPr/>
          </p:nvSpPr>
          <p:spPr>
            <a:xfrm>
              <a:off x="655560" y="126036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49440" y="125748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40520" y="418608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60720" y="4186080"/>
            <a:ext cx="12661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3.5”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00480" y="418608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41000" y="418608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6680" y="418608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3440" y="418608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9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20968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7543800"/>
            <a:ext cx="144792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758840" y="5119560"/>
            <a:ext cx="391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65120" y="6481800"/>
            <a:ext cx="1153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Brian W. Jus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68120" y="81439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762012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73920" y="247680"/>
            <a:ext cx="1732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91320" y="247680"/>
            <a:ext cx="880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2440" y="593640"/>
            <a:ext cx="457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Zenith Computer Incorporated, 7131 Star Street, Glennville, GA  304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1440" y="939960"/>
            <a:ext cx="2026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 #  DAFI01-**-C-21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600" y="1211400"/>
            <a:ext cx="6703560" cy="25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                              SUPPLIES/SERVICES                      QTY         UNIT         PRICE       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6120" y="1633680"/>
            <a:ext cx="51336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9080" y="1633680"/>
            <a:ext cx="2392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e Cable, Part #2349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nter Ribbons, Part #2745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, Color, Zenith Part #3901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U, Zenith, Model 486D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lank Dis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vard Graphics 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er Jet IV Printer, Part #40921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440" y="1633680"/>
            <a:ext cx="31824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57240" y="1633680"/>
            <a:ext cx="31824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30640" y="1633680"/>
            <a:ext cx="78912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39.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19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505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,757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12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495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799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32360" y="1633680"/>
            <a:ext cx="78912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197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3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,059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7,031.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38.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,477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,5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1120" y="4057560"/>
            <a:ext cx="591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0440" y="4403880"/>
            <a:ext cx="5248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IP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FOB Desti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Director, Information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9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VO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(Must include) - Contract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ended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or’s name and remit add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yment will be made upon receipt and acceptance of the goods and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421960" y="6411960"/>
            <a:ext cx="780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Fred Car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4680" y="6435720"/>
            <a:ext cx="693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00" y="8763120"/>
            <a:ext cx="10969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533412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1911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43434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4495680"/>
            <a:ext cx="20340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57280" y="46836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93480" y="39852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6640" y="677880"/>
            <a:ext cx="2003400" cy="13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9144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12952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6002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3600" y="636480"/>
            <a:ext cx="1440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 131-9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68600" y="87624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4120" y="984240"/>
            <a:ext cx="871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9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68680" y="1349280"/>
            <a:ext cx="124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30800" y="156204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3760" y="1638360"/>
            <a:ext cx="1299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21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30600" y="550800"/>
            <a:ext cx="279468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NITH COMPUTER INCORPO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31 STAR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ENNVILLE, GA  304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30400" y="150804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6240" y="174456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89440" y="2106720"/>
            <a:ext cx="261720" cy="288720"/>
            <a:chOff x="3889440" y="2106720"/>
            <a:chExt cx="261720" cy="288720"/>
          </a:xfrm>
        </p:grpSpPr>
        <p:sp>
          <p:nvSpPr>
            <p:cNvPr id="222" name=""/>
            <p:cNvSpPr/>
            <p:nvPr/>
          </p:nvSpPr>
          <p:spPr>
            <a:xfrm flipV="1">
              <a:off x="41511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9440" y="2387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49440" y="2106720"/>
            <a:ext cx="280800" cy="288720"/>
            <a:chOff x="649440" y="2106720"/>
            <a:chExt cx="280800" cy="288720"/>
          </a:xfrm>
        </p:grpSpPr>
        <p:sp>
          <p:nvSpPr>
            <p:cNvPr id="225" name=""/>
            <p:cNvSpPr/>
            <p:nvPr/>
          </p:nvSpPr>
          <p:spPr>
            <a:xfrm flipV="1">
              <a:off x="6555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49440" y="2387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889440" y="1430280"/>
            <a:ext cx="261720" cy="273240"/>
            <a:chOff x="3889440" y="1430280"/>
            <a:chExt cx="261720" cy="273240"/>
          </a:xfrm>
        </p:grpSpPr>
        <p:sp>
          <p:nvSpPr>
            <p:cNvPr id="228" name=""/>
            <p:cNvSpPr/>
            <p:nvPr/>
          </p:nvSpPr>
          <p:spPr>
            <a:xfrm>
              <a:off x="4151160" y="14400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9440" y="14302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25360" y="2481120"/>
            <a:ext cx="299592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RECTOR, INFORMATION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9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00" y="261000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5040" y="338148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4680" y="377028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22560" y="3780000"/>
            <a:ext cx="169884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e Cable #23490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3080" y="377028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760920"/>
            <a:ext cx="74448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.5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6800" y="3760920"/>
            <a:ext cx="8730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197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880" y="491796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12640" y="3776760"/>
            <a:ext cx="418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65880" y="4145040"/>
            <a:ext cx="8348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65880" y="4524480"/>
            <a:ext cx="8348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65880" y="4906800"/>
            <a:ext cx="8348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65880" y="5322960"/>
            <a:ext cx="8348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36240" y="582300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28080" y="582300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,637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49440" y="1433520"/>
            <a:ext cx="280800" cy="266760"/>
            <a:chOff x="649440" y="1433520"/>
            <a:chExt cx="280800" cy="266760"/>
          </a:xfrm>
        </p:grpSpPr>
        <p:sp>
          <p:nvSpPr>
            <p:cNvPr id="277" name=""/>
            <p:cNvSpPr/>
            <p:nvPr/>
          </p:nvSpPr>
          <p:spPr>
            <a:xfrm>
              <a:off x="655560" y="14367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49440" y="1433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40520" y="418608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20760" y="4195800"/>
            <a:ext cx="1633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nter Ribbons #458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00480" y="418608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1000" y="418608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56680" y="418608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28800" y="418608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38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4960" y="453240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31200" y="4564080"/>
            <a:ext cx="1525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or Monitor #3489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94360" y="453240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20480" y="453240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80000" y="4538520"/>
            <a:ext cx="632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5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8080" y="453240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,059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6343560"/>
            <a:ext cx="30434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OPLOC, N/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ENDORS 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9 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BILLING OFF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 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/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G  (29 JUN + 7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 J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OG  (6 JUL + 30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 AU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8400" y="8763120"/>
            <a:ext cx="1128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 725 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4080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24382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06480" y="434340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399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05760" y="613584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,656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4267080"/>
            <a:ext cx="6858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562720" y="5867280"/>
            <a:ext cx="6858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21:29:15Z</dcterms:created>
  <dc:creator>finance school</dc:creator>
  <dc:description/>
  <dc:language>en-US</dc:language>
  <cp:lastModifiedBy>Administrator</cp:lastModifiedBy>
  <cp:lastPrinted>2000-02-28T16:34:52Z</cp:lastPrinted>
  <dcterms:modified xsi:type="dcterms:W3CDTF">2004-09-16T14:18:33Z</dcterms:modified>
  <cp:revision>28</cp:revision>
  <dc:subject/>
  <dc:title>COMP PE</dc:title>
</cp:coreProperties>
</file>